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A21-CCCB-4230-AF87-4E2ABA540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AB4C-2852-42D4-8776-40CA44C538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6B6-FBD4-469C-9BEF-5B3C7693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2A8-612C-4933-AEF4-519DEF0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0F4-6FCA-46E3-9499-B573629D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B7A-953D-4E66-B975-5762B1B3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AC09-0155-4271-BA43-32AF89C7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8A5F-3D74-44D5-BAFD-68A8D7D5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C755-66C2-47BD-A7CD-AB7A968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9A45-0CE6-4A9D-BE1E-D58FC770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CC1-E9D5-41DD-95BC-DEBAD95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4697-3651-4919-B471-EDFB751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CE3D-1EB2-45E3-BD4C-8018C4D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3E3-706B-40F2-89A2-69AF450E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2002-F99C-4B4F-99D2-F331A4E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AE0F-A5B2-4AD2-B4F5-C96CF5F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D7F2-03C8-4474-A304-9AC13B14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F90F-3F1F-45CF-AEE2-9CFE4422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995-2979-494C-BD65-06DA0ACE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CB4-FCF3-4309-BEC3-62EDF65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7F0-2F25-47A4-B09C-FA9EC8C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2FB-ACFC-46C6-865F-2CB6588B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68B-924F-4F09-B0E2-97E3AE30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703-9A0A-4B41-AD09-4811590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773-DF1B-4CB4-9DA9-EF0313B5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1FE-51C9-4954-8C22-AB9DDD6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CD82-B02F-4C4A-BC56-05F29C17D6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E7A3-3847-4215-B4B5-28C7846C2B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21</a:t>
            </a:r>
            <a:r>
              <a:rPr b="0" lang="en-US" sz="5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Century Librar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7144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new paradigm for teaching in the 21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3520" y="2514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What we teach are inquiry proc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How we teach it is in collaboration with content-area teac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hat does learning in the library look like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e teach students to become self-actualized independent learners aware of their cognitive processes, and to use that self-awareness to increase information efficacy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t is this focus on meta-cognition that distinguishes our subject-area &amp; standa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t is also why we teach our subject in collaboration with other content-areas, and not as a stand-alone (skills in isolation) subject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act your teacher-librarian t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e by designing lessons together using inquiry processes &amp; information technolo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t up pathfinders for your units of stu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ncourage reading through book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plore audio 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earn how to use search tools and datab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elp in using Web 2.0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ngage students in storyt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se the library for producing and prese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IMG_0032.JPG"/>
          <p:cNvPicPr/>
          <p:nvPr/>
        </p:nvPicPr>
        <p:blipFill>
          <a:blip r:embed="rId1"/>
          <a:stretch/>
        </p:blipFill>
        <p:spPr>
          <a:xfrm>
            <a:off x="2057400" y="2590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7:12:30Z</dcterms:created>
  <dc:creator>Your User Name</dc:creator>
  <dc:description/>
  <dc:language>en-US</dc:language>
  <cp:lastModifiedBy>cryman</cp:lastModifiedBy>
  <dcterms:modified xsi:type="dcterms:W3CDTF">2009-08-03T19:31:20Z</dcterms:modified>
  <cp:revision>16</cp:revision>
  <dc:subject/>
  <dc:title>21st Century Library</dc:title>
</cp:coreProperties>
</file>